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B102-D1BE-4CD5-80C2-8FA85553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56AE-6856-4179-BB11-C0E9E629B001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7E97-44EE-4F58-B3B4-AF1FF130C196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0D6B-ABBC-44C8-A99C-13081DEC1075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1820C-51BF-4DCF-AD32-4FE1F22F971D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7836-1A5A-4CD8-86C3-653F55852DF5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05B-04C9-4B8D-80FA-37D16370526A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69E0-5DD4-4E3D-BF80-42AF487BD941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52CD-9665-4023-9730-7899094DB0A7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AF2D-780D-43EA-985E-67C50143D609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D88E-E6E1-4BD1-BFA6-FCFA3A2D2491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498A-D0CD-475F-A062-F9B6C9F862F1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7785-FBB2-4205-A18E-26A5EFE90247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30D2-1716-4655-A58B-7A95B43F6F72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FC87-4AAD-4363-AB24-D588802D242A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0A7A-DFF1-42BD-B662-0B1FC9715564}" type="slidenum">
              <a:rPr b="0" lang="en-US" sz="1200" spc="-1" strike="noStrike">
                <a:solidFill>
                  <a:srgbClr val="000000"/>
                </a:solidFill>
                <a:latin typeface="Chalkboar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28C-8363-43E3-A1EA-0098250D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02FD-3AB6-4BD7-9A4B-596EE796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7C7-BC5A-40ED-9562-122A8D02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B65-77AC-4C14-B695-A7F268B4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F094-87BC-4662-8D50-7B707478D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3E80-F442-4195-AE3F-C2A482E7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132A-5A09-47BE-9008-382161A6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C824-FB32-4CBD-B2BC-D59BE657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9FCC-B0BE-49CA-9160-2838F1E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086C-A208-4391-8D6E-BEE48E58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731-226D-4DBC-8B44-5721E9C2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390-B727-4A7A-9A64-567F127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174B-8771-4484-B567-A48A0800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5B85-781B-4500-8955-AAB0322D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DC99-D595-4E4A-A255-971A180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9701-39B7-4E16-A61C-5BDE19E5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184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41360" y="198108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3619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184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41360" y="4130640"/>
            <a:ext cx="208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E72D-D3F5-40CC-8E0D-819DDBEE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0469-DA2A-4183-9DD9-B540BA00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87F-918D-4B64-A82F-6EC7E6C2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A854-5B90-4131-8190-D27B5D17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62320" y="304560"/>
            <a:ext cx="624816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F53A-9AB2-4A54-BB0A-C4B9F856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A8E-07FC-4570-8ABA-D11F45C4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0800" y="413064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1A2-4B0A-4C23-88AA-F0A28295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0800" y="1981080"/>
            <a:ext cx="3160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361960" y="4130640"/>
            <a:ext cx="6476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EBD-CBBF-4285-9E51-13980A8B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CBF2-525E-4529-8CBA-371C555849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halkboard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7A39-9515-46FE-821F-D62086AAE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81280" y="1752120"/>
            <a:ext cx="51055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halkboard"/>
              </a:rPr>
              <a:t>Emergency 101</a:t>
            </a:r>
            <a:endParaRPr b="0" i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4190760"/>
            <a:ext cx="51055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re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15000" y="190512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Never move the victim(s) to give treatment unless immediate life-threatening danger exis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Is based on your primary survey of the victim. Provide care until EMS arrive and take ov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2567160" y="1981080"/>
            <a:ext cx="2751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os stayed at the scene of the accident with Lauryn until help arriv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rlos acted as th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uryn acted as t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, call, care were the procedural steps used by Andy when he found his sister unresponsive in the bathro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ndy saw his sister on the floor what should he have don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3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ior to applying pressure to Thomas’s open gash Kimberley put on a pair of kitchen dish washing gl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Kimberley use a pair of dishwashing gl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tuation 4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 to providing care Jack removed Heather from the car. Heather tried to sue Jack for injuries she said she received when pulled from her burning car by Ja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law is in place to protect Jack from being sued by Heath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Independent Work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work today independently using your notes to design a “In case of An Emergency” three tab fold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xtile"/>
              </a:rPr>
              <a:t>Foldable Criteria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extile"/>
              </a:rPr>
              <a:t>Your foldable is worth 20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extile"/>
              </a:rPr>
              <a:t>Information- location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extile"/>
              </a:rPr>
              <a:t>Information- accurate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Textile"/>
              </a:rPr>
              <a:t>Graphic- are appropriate and there is one for each EAP step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extile"/>
              </a:rPr>
              <a:t>Design- Neat and Colored (5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Is An Emergency?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Any unforeseen event or condition that requires a prompt respons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o can respond in an emergency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7684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halkboard"/>
              </a:rPr>
              <a:t>Any Good Samarit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ho ev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2814480" y="198108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What Should a “Good Samaritan” Know?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The </a:t>
            </a:r>
            <a:r>
              <a:rPr b="0" lang="en-US" sz="2600" spc="-1" strike="noStrike">
                <a:solidFill>
                  <a:srgbClr val="cc3300"/>
                </a:solidFill>
                <a:latin typeface="Chalkboard"/>
              </a:rPr>
              <a:t>Good Samaritan Law</a:t>
            </a: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 protects those who choose to aid others who are injured or ill from liability (being sued)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7684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Can also double as the </a:t>
            </a:r>
            <a:r>
              <a:rPr b="1" lang="en-US" sz="2600" spc="-1" strike="noStrike">
                <a:solidFill>
                  <a:srgbClr val="cc3300"/>
                </a:solidFill>
                <a:latin typeface="Chalkboard"/>
              </a:rPr>
              <a:t>first responder</a:t>
            </a:r>
            <a:r>
              <a:rPr b="1" lang="en-US" sz="2600" spc="-1" strike="noStrike">
                <a:solidFill>
                  <a:srgbClr val="000000"/>
                </a:solidFill>
                <a:latin typeface="Chalkboar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halkboard"/>
              </a:rPr>
              <a:t>- first person at an emergency scene who stays until professional help arrives.</a:t>
            </a:r>
            <a:r>
              <a:rPr b="0" lang="en-US" sz="2000" spc="-1" strike="noStrike">
                <a:solidFill>
                  <a:srgbClr val="000000"/>
                </a:solidFill>
                <a:latin typeface="Chalkboard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How Should a Good Samaritan Respond In an Emergency?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Using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universal precautions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- actions taken to prevent the spread of disease by treating all bodily fluids, especially blood, as if it were conta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In a calm man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If Your First on the Scene…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be the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first respo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You will also need an </a:t>
            </a:r>
            <a:r>
              <a:rPr b="0" lang="en-US" sz="3200" spc="-1" strike="noStrike">
                <a:solidFill>
                  <a:srgbClr val="cc3300"/>
                </a:solidFill>
                <a:latin typeface="Chalkboard"/>
              </a:rPr>
              <a:t>Emergency Action Plan</a:t>
            </a: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 - a systematic list of procedures to use in an 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heck- 1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Survey the sc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Do not endanger your own life to try to help the victim if anything dangerous is present- live wires, vicious animals, fire, deep water, etc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lkboard"/>
              </a:rPr>
              <a:t>Call 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heck- 2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onduct a primary survey of the victim(s) if the scene is saf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Check to determine if the victim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consciou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Has an open, unobstructed airwa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breath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Has a heartb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halkboard"/>
              </a:rPr>
              <a:t>Is not bleeding severely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6248160" cy="1447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halkboard"/>
              </a:rPr>
              <a:t>Call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316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following info must be provided when calling 9-1-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exact location of the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The telephone number from which the call is being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38320" y="1905120"/>
            <a:ext cx="316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aller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What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Number of 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Condition of vict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halkboard"/>
              </a:rPr>
              <a:t>First aid being g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17:43:44Z</dcterms:created>
  <dc:creator>Howard County Public Schools</dc:creator>
  <dc:description/>
  <dc:language>en-US</dc:language>
  <cp:lastModifiedBy>Howard County Administrator</cp:lastModifiedBy>
  <dcterms:modified xsi:type="dcterms:W3CDTF">2014-03-07T18:30:59Z</dcterms:modified>
  <cp:revision>25</cp:revision>
  <dc:subject/>
  <dc:title>Emergency 101</dc:title>
</cp:coreProperties>
</file>